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F98-9EDB-4532-B20F-1916475E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C23-989A-4C75-BC8B-18D7B284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7CA-535B-4F3C-A005-0DEE32A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57F-FFE3-444A-A07A-65F161F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163-2343-416E-B155-C14800CC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543-97E9-4652-B264-9E842C3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4058-8BF2-4391-B396-44A0EEC3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FE4F-A5F1-4D11-B06E-DC245B2C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B5DD-632A-480A-BC4B-3302503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BBD3-ADE3-4107-AFC0-1628783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9325-4783-4E34-A02E-AD92E52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496-1543-4625-82A4-49DCE14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885E-1733-4326-8EFC-3F2E2480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C02F-764A-4A66-B644-4130F05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49B5-B8EB-46D0-A394-60CFBFC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3FF4-C261-47BE-BD14-BAFBEEAF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CA44-EDD0-404B-BD2F-321A877E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612-89F5-40B7-83B3-E65889C2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392-303E-4BC2-BFE5-BFE896F3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269-84F9-45D5-A819-48ACAE8C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7F9-3CB9-4076-9192-EC0EEB9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036-B2AF-41FF-8991-02EA7BE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CE4-B679-49B5-9E95-E6E4227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153-2C2F-44D0-9FAD-00246AD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5876-02F0-4E8B-952F-977EA5FE82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B3C-F6BE-41FE-98D8-300850B08A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Sophomore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CADEMIC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taking strate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CADEMIC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umé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Sear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AP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1-05-31T19:42:50Z</dcterms:modified>
  <cp:revision>9</cp:revision>
  <dc:subject/>
  <dc:title>Sophomore Class </dc:title>
</cp:coreProperties>
</file>